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492-666B-46CF-A7AF-9FCC1DD6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E07-7AAE-4522-A808-B809B04C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E31645-55A0-4506-B735-18C557A6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A5A8-B736-46E5-BB85-6AABB105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262CF0-E15C-4794-BC3C-244706F7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71DA-F29B-430D-A2E7-18E7939D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9C03-0523-4CB3-9159-2EEB2676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0069-A815-43C8-AB67-0961B8CE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2C6-B7EE-48B9-A9D1-407972EA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60AE-4926-4B31-9713-EB017BE0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0B17-0444-49E4-B031-38449DB2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134-B486-4015-B808-6504C50C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D4C-D779-49CF-B508-6DFA4673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F9776-EA9C-49BB-BED6-861667E0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7D86-0E96-4069-8140-BCC8AAA4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6038-4CF6-4FD5-9FD2-DB7C5394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1CE-6574-4DD3-B147-D979FA02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E0B666-3377-4609-925C-D5A10EFA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d.openlinksw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blog/hcls" TargetMode="External"/><Relationship Id="rId2" Type="http://schemas.openxmlformats.org/officeDocument/2006/relationships/hyperlink" Target="http://esw.w3.org/topic/HCLSI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ls.deri.org/hcls_demo.html" TargetMode="External"/><Relationship Id="rId2" Type="http://schemas.openxmlformats.org/officeDocument/2006/relationships/hyperlink" Target="http://hcls.deri.org/coi/demo/" TargetMode="External"/><Relationship Id="rId3" Type="http://schemas.openxmlformats.org/officeDocument/2006/relationships/hyperlink" Target="http://www.w3.org/2009/08/7tmdemo" TargetMode="External"/><Relationship Id="rId4" Type="http://schemas.openxmlformats.org/officeDocument/2006/relationships/hyperlink" Target="http://adaptivedisclosure.org/" TargetMode="External"/><Relationship Id="rId5" Type="http://schemas.openxmlformats.org/officeDocument/2006/relationships/hyperlink" Target="http://sourceforge.net/projects/swobjects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CLS Tutorial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W3C Health Care and Life Sciences Interes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erence Presen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-IT World, WWW, ISMB, AMI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)Organized Worksho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-SHALS, SWASD, SWAT4LS 2009, IEEE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blic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LOD Workshop at WWW 2009: Enabling Tailored Therapeutics with Linke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the ICBO: Pharma Ontology: Creating a Patient-Centric Ontology for Translational 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A Spring Symposium: Clinical Observations Interoperability: A Semantic Web Appro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MC Bioinformatics. A Journey to Semantic Web Query Federation in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ings in Bioinformatics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Life sciences on the Semantic Web: The Neurocommons and Bey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’ve come a long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iplestores have gone from millions to bi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ed Open Data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lod.openlinksw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demand Knowledge Bases: Amazon’s E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inologies: SNOMED-CT, MeSH, UMLS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commons, Flyweb, Biogateway, Bio2RDF, Linked Lif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, NCBO’s BioPortal, Concept Web Alliance (C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S/CWA/SIB Uniprot project sta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netrance of ontology in bio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O Foundry - http://www.obofoundr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oPortal - http://bioportal.bioontolog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enters for Biomedical Computing http://www.ncbcs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 http://sharednames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pt Web Alliance http://conceptweblog.wordpress.com/conferenc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mantic Web Interest Group PRISM Forum http://www.prismforum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packages in ELIXIR http://www.elixir-europe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v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resent knowledge so that others can discover where a fact (or triple) came from and evaluating how to use it – link facts to data as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d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CLS works together with the Provenance IG (Yolanda G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come up in work in BioRDF and SciDisc task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 Web Alliance has adopted SWAN/SIOC as the starting point for modeling prov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dent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use common URI’s in order to link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nance re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ers for people (research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 servers (identifiers for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for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Names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mis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 Semantic Web application does not necessarily require converting and storing all data in 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data where it li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 accessible via RDF expor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SPARQL end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46808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to getting involv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ise - Early access to use cases and best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standar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effective exploration of new technology through collaboration and net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 to any of us after the sess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 chairs and team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-hcls-chairs@w3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the next F2F (last one was her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sw.w3.org/topic/HCLSIG/Meetings/2009-11-30_F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torial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o to W3C HCLS I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M. Scott Mars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ealth Care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- Vipul Kashy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harma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Elgar Pi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ientific Discourse Use Ca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Tim Cl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ology Consider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ohn Ma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ted Que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ei Che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HC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M. Scott Marshall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co-chair HCLS IG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Leiden University Medical Center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University of Amsterd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the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ginally chartered in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Eric Neumann and Tonya Hongserme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-chartered in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Scott Marshall and Susie Step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ntact: Eric Prud’homme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ad industr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100 memb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ing list of over 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www.w3.org/blog/hc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esw.w3.org/topic/HCLS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on of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620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ssion of HCLS is to develop, advocate for, and support the use of Semantic Web technologie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ic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lational medi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omains stand to gain tremendous benefit by adoption of Semantic Web technologies, as they depend on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operability of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many domains and processes for efficient decision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ing across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ional medicine – use cases that cross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across domains and researc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are the link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 – transcription factor –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thway – molecular interaction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ug – drug side effect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al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 discourse to raw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id individuals in understanding the business and technical benefits of using Semantic Web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guidelin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lerate the adoption of the techn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ection of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proof-of-concept demonst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vel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lev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in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group’s work at government, industry, and academic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HCLS IG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teleconferences using teleconference bridge (Zakim), IRC,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2Face (F2F)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 for publishing W3C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Task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20720"/>
            <a:ext cx="8534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RD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federating (neuroscience) knowledge b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 Cheung (Yal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inical Observations Interoperabil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atient recruitment in t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pul Kashyap (Cigna Healthca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ing Open Drug Dat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aggregation of Web-based drug da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Bizer (Free University Berl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lational Medicine Ont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high level patient-centric ont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 Denney (Eli Lill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ientific Discours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building communities through netwo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 Clark (Harvard Univers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Semantic Web representation of exist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hn Madden (Duk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onstration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hcls.deri.org/hcls_demo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monstrator of querying across heterogeneous EHR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hcls.deri.org/coi/demo/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www.w3.org/2009/08/7tmde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ws.adaptivedisclosure.org/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CLS KB hosted at 2 instit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nked Open Data contrib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est Group No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CLS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ion of SWAN and SIOC ontologies for Scientific Dis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-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ies: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sourceforge.net/projects/swobjects/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scott</cp:lastModifiedBy>
  <dcterms:modified xsi:type="dcterms:W3CDTF">2010-02-24T19:58:48Z</dcterms:modified>
  <cp:revision>18</cp:revision>
  <dc:subject/>
  <dc:title>Slide 1</dc:title>
</cp:coreProperties>
</file>